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5E2-08DF-4536-944A-76089257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6FD-067B-4147-A334-864775B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A7A-9B1E-4EF2-A825-E1C6C56E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8F8-E57B-4EB8-ACE8-AE062EBC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A23-625C-41E7-8168-2FB87BE6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23C-41E8-4D85-8FDC-41F90AA4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60C-E55D-4451-A91F-6810ED4F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574-02A1-430C-8637-409039F8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666-D4C5-40AD-8A02-32794A8B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DF1-2FC4-4F25-A5AF-C849A59D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89F-0EFC-46C7-80AA-BDACD12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C72-C366-45D5-B6A5-491C14B2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6866-A194-4685-8470-293F9E4D37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362320"/>
            <a:ext cx="627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ffer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259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7391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53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7162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772400" cy="441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772400" cy="838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724280"/>
            <a:ext cx="7772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95680" y="5032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e- 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221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8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84872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600200" y="4343400"/>
            <a:ext cx="609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5867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4872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5800" y="36576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20:09:28Z</dcterms:modified>
  <cp:revision>215</cp:revision>
  <dc:subject/>
  <dc:title>Slide 1</dc:title>
</cp:coreProperties>
</file>